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3143170-508D-4972-88F3-01FCC5D20B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2760" y="4549320"/>
            <a:ext cx="6118200" cy="50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n introduction to RBM, emphasise that there are no absolutes in RBM – rather this is a rough typology to help them navigate – a guide – not a straightjack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columns of information appear in order, from left to right. The presenter introduces the results terminology from top to bottom (impact down to acti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arrows come in. The main message here is that there is a vertical logic of causality flowing between the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yellow column of examples emerge. These examples match the previous slide, so it is an opportunity to clarify again the levels and the caus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“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f – T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flags appear. Again, emphasise the vertical, causal logic of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ite column emerges to provide the overall focus of change for each level of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column then emerges, emphasising the rough timeframe for levels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red triangle emerges. Message: that collective accountability for results increases as they move up the chain of results. At the outcome level, no single agency is likely to be able to guarantee a result. Rather, the collective efforts of several agencies and partners will be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– the second level of outcome appears. This is the time to introduce the UN’s approach to RBM which has two levels of Outcome – UNDAF Outcome and contributing CP Outcomes. Point out that the second level of outcome is still an outcome level result (ie institutional/ behavioural; 5 years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it has a higher level of amb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move to the next slide to show them how these results fit into the Results Matri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4E7E-0BC5-48DE-85F9-8A541866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9F0-ADD6-4871-9EED-DE95E5F2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B5F-D6A7-4AB3-BF9C-06E7FEA6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141-AB38-4CB3-90A1-EA09F73C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EBE-181B-463D-A83B-56E9DD5F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7E2-D782-42D1-99CE-401D1019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2B4-EB8A-4395-95ED-C9144AF5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F8D3-CE76-4FCB-A242-9BCFC15B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9ABD-C4DA-4F09-ABC4-6615FA09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1C9-7939-4A6B-B4C2-F5B7A07C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212-17C9-4F9B-B02C-2719FFFE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F21A-EC8F-4E40-B803-FE34025D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5BD9-582E-4339-B3D8-C4AF79C003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752480"/>
            <a:ext cx="1524240" cy="4724640"/>
            <a:chOff x="152280" y="1752480"/>
            <a:chExt cx="1524240" cy="4724640"/>
          </a:xfrm>
        </p:grpSpPr>
        <p:sp>
          <p:nvSpPr>
            <p:cNvPr id="49" name=""/>
            <p:cNvSpPr/>
            <p:nvPr/>
          </p:nvSpPr>
          <p:spPr>
            <a:xfrm>
              <a:off x="152280" y="3733920"/>
              <a:ext cx="152424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280" y="17524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mp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47242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571500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828800" y="175248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overty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733920"/>
            <a:ext cx="23623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3000 new small enterprises developed in poorest provi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4648320"/>
            <a:ext cx="23623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7 model business incubators operational in poorest provi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715000"/>
            <a:ext cx="25146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cquire facil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taff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icro-credit provision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762120"/>
            <a:ext cx="15242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762120"/>
            <a:ext cx="2286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ik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762120"/>
            <a:ext cx="1523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cus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9907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762120"/>
            <a:ext cx="152388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frame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19920" y="1752480"/>
            <a:ext cx="1523880" cy="4724640"/>
            <a:chOff x="6019920" y="1752480"/>
            <a:chExt cx="1523880" cy="4724640"/>
          </a:xfrm>
        </p:grpSpPr>
        <p:sp>
          <p:nvSpPr>
            <p:cNvPr id="63" name=""/>
            <p:cNvSpPr/>
            <p:nvPr/>
          </p:nvSpPr>
          <p:spPr>
            <a:xfrm>
              <a:off x="6019920" y="571500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lt;1 yr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19920" y="47242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19920" y="3733920"/>
              <a:ext cx="1523880" cy="76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17524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-10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509960" y="990720"/>
            <a:ext cx="1753560" cy="5410080"/>
            <a:chOff x="7509960" y="990720"/>
            <a:chExt cx="1753560" cy="5410080"/>
          </a:xfrm>
        </p:grpSpPr>
        <p:sp>
          <p:nvSpPr>
            <p:cNvPr id="68" name=""/>
            <p:cNvSpPr/>
            <p:nvPr/>
          </p:nvSpPr>
          <p:spPr>
            <a:xfrm rot="10800000">
              <a:off x="7639920" y="990720"/>
              <a:ext cx="1369080" cy="5410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9800">
              <a:off x="7854840" y="127764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1540600">
              <a:off x="7928640" y="548640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258400">
              <a:off x="7557840" y="3203280"/>
              <a:ext cx="165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llective Account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43400" y="1752480"/>
            <a:ext cx="1600200" cy="4038840"/>
            <a:chOff x="4343400" y="1752480"/>
            <a:chExt cx="1600200" cy="4038840"/>
          </a:xfrm>
        </p:grpSpPr>
        <p:sp>
          <p:nvSpPr>
            <p:cNvPr id="73" name=""/>
            <p:cNvSpPr/>
            <p:nvPr/>
          </p:nvSpPr>
          <p:spPr>
            <a:xfrm>
              <a:off x="4343400" y="3733920"/>
              <a:ext cx="15242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Institutional/ Behavioural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4724280"/>
              <a:ext cx="16002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Operational/ skills, abilities, products &amp;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1752480"/>
              <a:ext cx="15242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Human!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2280" y="2743200"/>
            <a:ext cx="15242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74320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mployment and income generation incre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7432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titutional/ Behavioural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2743200"/>
            <a:ext cx="152388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rs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59400">
            <a:off x="304920" y="3428640"/>
            <a:ext cx="38088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429000"/>
            <a:ext cx="38124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991400">
            <a:off x="1371600" y="252864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066400">
            <a:off x="3962880" y="2369880"/>
            <a:ext cx="533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0066400">
            <a:off x="3961080" y="32763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066400">
            <a:off x="3962880" y="434304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0066400">
            <a:off x="3962880" y="53337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991400">
            <a:off x="1371600" y="359532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991400">
            <a:off x="1371600" y="464796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991400">
            <a:off x="1371600" y="159984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1680" y="2434680"/>
            <a:ext cx="1146240" cy="3359520"/>
            <a:chOff x="301680" y="2434680"/>
            <a:chExt cx="1146240" cy="3359520"/>
          </a:xfrm>
        </p:grpSpPr>
        <p:sp>
          <p:nvSpPr>
            <p:cNvPr id="91" name=""/>
            <p:cNvSpPr/>
            <p:nvPr/>
          </p:nvSpPr>
          <p:spPr>
            <a:xfrm rot="10859400">
              <a:off x="304920" y="4419360"/>
              <a:ext cx="38088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59400">
              <a:off x="304920" y="54093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59400">
              <a:off x="304920" y="24375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6680" y="54100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66680" y="4419720"/>
              <a:ext cx="38124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24382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Typology for RBM: Poverty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0:10:13Z</dcterms:created>
  <dc:creator>kayijuka</dc:creator>
  <dc:description/>
  <dc:language>en-US</dc:language>
  <cp:lastModifiedBy>sandrone</cp:lastModifiedBy>
  <dcterms:modified xsi:type="dcterms:W3CDTF">2010-01-22T15:13:51Z</dcterms:modified>
  <cp:revision>5</cp:revision>
  <dc:subject/>
  <dc:title>PowerPoint Presentation</dc:title>
</cp:coreProperties>
</file>